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2EB3-F4E0-4BA4-80BD-A7C3C6839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1D86-48BE-4CA3-99B3-5E63DA5E9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02CB-46CE-4936-8C58-A48BC15FA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3FAB-DD91-4F4E-9823-DEAD17702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542-8FF8-41D9-B0E8-EFA086AF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EF8-9F08-4F68-BB8B-301B0B04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7D0-AC50-4F76-936F-366902FE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F7C-5D7D-4ADB-B554-0A7783B6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95B-B1C2-4DCD-8565-9E0C6633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96C-F698-42A4-927E-93DAA02A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CB1-EBD7-4B02-AEFC-EA31F825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7DF-8005-444B-AA8E-D35B7B72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6FD-01D8-4368-AF62-FF775C92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6BF-B021-40C7-842B-166346D2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A72-716C-47FE-B23B-5E6ADB87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6D2-7CB1-4E9E-89CB-0B53D923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CEAB-2E9B-45CB-B2CA-E795C6FD2CF3}" type="slidenum">
              <a:rPr b="0" lang="it-IT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841320"/>
            <a:ext cx="685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4500" spc="-1" strike="noStrike">
                <a:solidFill>
                  <a:srgbClr val="000000"/>
                </a:solidFill>
                <a:latin typeface="Calibri Light"/>
              </a:rPr>
              <a:t>Connetty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2701440"/>
            <a:ext cx="6858000" cy="12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28560" indent="-285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Logo for company </a:t>
            </a: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Connet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Calibri Light"/>
              </a:rPr>
              <a:t>Company Miss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131840"/>
            <a:ext cx="7886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Connetty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s an holding digital company that have the mission to startup digital innovative company or to invest and boost digital innovative compa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nnetty offert to company where have sha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trategic, technical and commercial consultancy for growing the business in terms of technology, vision and increasing partnership and cust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upport the company investing money and financing the company helping in growing quickly and reducing the time to mark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ncepts in «Connecty» na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nnect: sharing contacts, sharing experiences, sharing networking, support in strategy and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Calibri Light"/>
              </a:rPr>
              <a:t>Positioning/Identity concepts for logo desig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368000"/>
            <a:ext cx="78868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Position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ne is “social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, very si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on (innovation in a market attached to traditional log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Identity/sugges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e suggest with a pictuers an Idea of logo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mmagine 2" descr=""/>
          <p:cNvPicPr/>
          <p:nvPr/>
        </p:nvPicPr>
        <p:blipFill>
          <a:blip r:embed="rId1"/>
          <a:stretch/>
        </p:blipFill>
        <p:spPr>
          <a:xfrm>
            <a:off x="2484360" y="3292560"/>
            <a:ext cx="274968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Calibri Light"/>
              </a:rPr>
              <a:t>Some suggestion for colours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Rettangolo 4"/>
          <p:cNvSpPr/>
          <p:nvPr/>
        </p:nvSpPr>
        <p:spPr>
          <a:xfrm>
            <a:off x="1116000" y="1708200"/>
            <a:ext cx="1368360" cy="1150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08:55:36Z</dcterms:created>
  <dc:creator>zillo</dc:creator>
  <dc:description/>
  <dc:language>en-US</dc:language>
  <cp:lastModifiedBy>Alberto Zilli</cp:lastModifiedBy>
  <dcterms:modified xsi:type="dcterms:W3CDTF">2016-07-19T15:10:35Z</dcterms:modified>
  <cp:revision>123</cp:revision>
  <dc:subject/>
  <dc:title>Refine Direct</dc:title>
</cp:coreProperties>
</file>